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55BA-2548-45D4-9F44-1FE37BEF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8B13-19A8-4BB8-AB74-0647288B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936E-A5C3-4E81-8921-95751D02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2BEB-5FAD-4CB2-95FE-B1568222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6231-9050-4B39-BC39-348590AF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FAE8-D251-4286-8875-8E4BEBD9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CA9D-ECAA-4461-9CB9-3F148943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07C9-9D22-4F46-B000-4E496BF3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BA4D-26ED-42DB-9F6F-A6701A86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254E-5A57-40CA-81CF-25FF35C8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FBAA-09E9-4B86-9CCF-D57CDD90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51B4-3100-409A-8D0D-A99C18B6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D72C-5BA0-4E7D-BDF8-16EFEB25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C7FC-D659-4493-90F8-15D9B4AC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4D53-2466-402A-BCFD-B7785CE4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016E-96D2-4C24-94E4-1C981706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79B6-52C8-4F37-88C6-6AD64BD4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D48C-5C9B-4C44-A66A-1150525A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DAE8-2AE2-4D84-B544-20FE83AA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998B-27DB-4FCE-AB65-470C1ECB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2B1C-753F-484B-826C-2974CC7D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B0D9-A255-4CD8-A9D9-A4631053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2F43-1BF2-4E8F-940F-58D2DD8C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7C07-7853-41BC-AFB3-11DEC308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7F19-FA40-46DC-8F31-D14296A65556}" type="slidenum">
              <a:rPr b="0" lang="hu-H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1EB9-3658-44DD-A210-5DD6C9E51A32}" type="slidenum">
              <a:rPr b="0" lang="hu-H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ndszer adminisztrátori feladatok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Konfigurációmenedzsment feladatai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Hardvernyilvántartás kialakítá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ábelezési rendszer nyilvántartása és menedzsmentje (CMS, Cable Management Syste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zoftvernyilvántartás kialakítá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Konfigurációmenedzsment feladata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Topológia nyilvántartás kialakítá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Rendszerkonfigurációs térkép kialakítá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z adminisztrált LAN információs adatbázisának kialakítás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MIB (Management Information Base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Konfigurációmenedzsment feladata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áltozások nyilvántartá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 konfigurációk menedzselését segítő eszközök használata (Adatbázis-kezelő, dokumentumkezelő, diszk-felhasználást adminisztráló, monitoring programok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Hibamenedzsment feladatai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lhasználók felkészítése a hibák felismerésére és a hibák észlelésekor szükséges teendők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agnosztikai eszközök használata az ismeretlen eredetű hibák detektálásá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Hibamenedzsment feladata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gikai terv (forgatókönyv) készítése a típusos problémák elhárításá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eménynapló használ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ztelési eljárások kidolgozá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bamenedzsment eszköze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Licence menedzsment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álózaton működő szoftverek licence-nyilvántartási rendszerének kidolgozá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llegális szoftverek felkutatása és eltávolítása a hálózatró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Adatbiztonság és adatvédelem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LAN biztonsági osztályának meghatározá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Felhasználói hozzáférés-szabályozás rendszerének kialakítá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datcserét végző partnerek hitelességének ellenőrzé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Vírusvéde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datbiztonságot és adatvédelmet támogató szoftver/hardver eszközök használata. (LAN  figyelők, vírusvédelmi eszközök, hozzáférést figyelő és dokumentáló eszközö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14:19:29Z</dcterms:created>
  <dc:creator>Nagymáté Péter</dc:creator>
  <dc:description/>
  <dc:language>en-US</dc:language>
  <cp:lastModifiedBy>Nagymáté Péter</cp:lastModifiedBy>
  <dcterms:modified xsi:type="dcterms:W3CDTF">2004-12-14T14:41:01Z</dcterms:modified>
  <cp:revision>3</cp:revision>
  <dc:subject/>
  <dc:title>Rendszer adminisztrátori feladatok</dc:title>
</cp:coreProperties>
</file>